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D1B-70D5-4E1C-B917-2C73A2F7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183-46DF-4F72-9715-28FC06FC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103-F161-484A-81B1-51C4691C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CC6-D7AB-46CA-B856-501CD9F8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FD3-4E8D-4FD3-95E1-2F1F4904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812-A323-4A39-A6B2-A506320B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C28-8032-434E-A9D7-9DB3C358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F38-0ADD-40F6-9AD8-C6FE34A2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D74-AC41-48A8-BCF0-E3446994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A07-3108-471A-B4B0-3D6C39F6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4CE-303B-4ECF-8A26-BF9839E9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ACE-D635-4227-B717-1D3E22A5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0B3C-1844-40E9-81E1-4D68FA9EF20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8713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873520" y="1052640"/>
            <a:ext cx="6019560" cy="58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198440" y="2924280"/>
            <a:ext cx="769464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17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رفة أحوالهم وما يناس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33"/>
          <a:stretch/>
        </p:blipFill>
        <p:spPr>
          <a:xfrm>
            <a:off x="324000" y="2276640"/>
            <a:ext cx="85341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7465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1041480"/>
            <a:ext cx="88297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1712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39528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530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عاء إلى الله بآياته والدعاء إلى حجج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جهدون أنفسهم في عداوت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1979640" y="155736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 كفائ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واجب كفائي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ذا قام به من يكفي سقط الإثم عن الباق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ب أن تكون الدعوة إ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بصيرة و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نبغي للداع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رفة أحوال المدعوين وما يناس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عاقبة بالمثل دون تجاوز للضوابط الشرع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فضل من المعاقبة بالمث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بر والاحتساب والعفو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ية الله تعالى ثابتة لأه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 و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معية الله تعالى لأهل التقوى والإحس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ية نصر وتأي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1"/>
          <p:cNvSpPr/>
          <p:nvPr/>
        </p:nvSpPr>
        <p:spPr>
          <a:xfrm>
            <a:off x="250920" y="1700280"/>
            <a:ext cx="8629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حك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وعظة الح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جادلة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597120" y="907920"/>
            <a:ext cx="528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5240" cy="1152720"/>
          </a:xfrm>
          <a:prstGeom prst="rect">
            <a:avLst/>
          </a:prstGeom>
          <a:ln w="0">
            <a:noFill/>
          </a:ln>
        </p:spPr>
      </p:pic>
      <p:sp>
        <p:nvSpPr>
          <p:cNvPr id="73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31:57Z</dcterms:modified>
  <cp:revision>1955</cp:revision>
  <dc:subject/>
  <dc:title>عرض تقديمي في PowerPoint</dc:title>
</cp:coreProperties>
</file>